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1D51-6633-47AE-8B8D-DF68CA22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35E5-E455-467A-B666-9384E1AF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9634-DF28-4499-8761-292283FD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6ED9-637F-49B2-AC97-595CBDB6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1552-B5F9-4E71-ADB0-2DAABC0E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CB23-0363-4BD4-BD24-E5A92DE1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68E1-E630-44DD-89EA-91802E2D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5A88-FED6-45F2-86C7-075D3517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D7E4-1EA9-4BBE-A473-F7D7FB06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7D34-534A-406B-9533-19D6C84E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5C8C-6C64-42E9-8836-B575EB1C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CADC-B6E2-416A-A428-5B235005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1A17-9FD1-4984-89BE-0B5C3612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AA89-B603-43AE-A32C-69708B01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F29B-EBDD-44B3-8900-569085CA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E08C-3C56-4632-A1A4-691A95CE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1199-D6E0-48A5-A6BD-86A4892C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A0287-3F1C-48B6-885E-E543ACBE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46821-1560-4542-9287-EBCA150B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A95AD-E62F-45E5-AF27-74CDC44E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3F71A-D08B-4151-8062-54C4D588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7DEE9-D1F0-4F83-BA83-46EB5D30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DA81-B125-4D19-AC1B-8C9A8F58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A6FFE-1099-475A-905D-4289F73D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3BC78-18FC-4D96-95D8-1D6EF8AC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25017-6855-4855-B1CF-0FC8E03E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EEE81-7E42-436A-BB45-C8B9CA6E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219D1-FCCC-461A-AB2E-1DC08864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75253-8D19-4312-8D26-E630D74D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BB4AB-EE1B-46A2-B961-983EE52A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D754F-E4DC-4CA5-A1F4-93D7DF37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0C784-D842-436A-AE4A-62BBE2FF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3AB4E-B767-4C25-BF4F-B00B08AA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58AB-D8D1-4DBA-ACAB-FD3D1134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C4ED7-3E4A-4007-B505-91041226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F55B7-3CBC-406F-AAAF-7334E53E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FADEB-8548-4C3D-8A96-DAEE47FF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1CA1F-941A-4F3F-8711-8B098753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92C91-B288-45AE-8772-D15E2E6F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9CB94-265E-4D22-958F-251C3482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422F3-3205-4498-A379-EA423820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FA610-E593-4548-83DD-F798212A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F796D-57EE-4655-93C5-51360470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E3661-6558-441B-AA8F-895E48AE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8D25-48E7-4B74-BA61-92F8D6DB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84664-B3C4-4FD5-88CE-DF6EA278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6A34B-138C-447E-B953-67358402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5B5D7-6462-4433-9B85-9D756D30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2579B-B535-44B3-8509-A9BE9A31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1B787-FA18-4DEA-AC57-DFCFE82B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A8BD0-F332-4739-B6DA-522C1FFA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14C79-1497-4E26-BDB1-85E1D3E5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5D27F-A045-4E85-9BE0-7942B68F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53BE8-D532-49E7-9A4F-C173166C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447BD-46C4-4F1A-A9C8-CE4AB34B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2C58-940C-43EC-94BE-15E6ECFA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FA9AD-E5D2-4E0B-A0FB-2CF789E3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E651D-A1F5-4901-813A-E1F631CE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BDB0E-B785-46B7-939C-6C2D81F7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CDAB5-4499-43D1-AEE5-54D1FFDA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CCCE2-6E48-4A07-BEC4-45755DBE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DD7A0-136D-4A69-B96C-FF25F3F3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1D55A-170E-4BD8-A651-9B348A4D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62425-C171-4BCB-AA37-BD66420B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B1FDF-8ED8-4FFC-9ED6-736F7908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99B22-0280-4ACD-973E-30F4B42A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EAF-06B1-4732-AC72-AF5E0AB1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8F4F3-CDF1-472C-9702-082ED6D3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B9D5E-2FE8-4363-8006-2C98FEA7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67E64-8954-4422-A5F2-66E3EEBCA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30251-51E1-4762-91A9-A813280D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048C6-81D2-45BA-92DE-9C80ECCA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41FA9-3280-4EE8-99D4-6D3A44E9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39716-B909-45A4-868C-BC71671B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0020F-B0B6-4CFD-B23A-45A8997F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F72D6-F06F-4016-8ECF-BA6971D0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02B3D-ED67-4709-9186-8E64A6F9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20AA-F63A-4682-8029-BFB44AEF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1CB40-BFC8-4784-BD2B-257F689C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31D59-43AA-4FE3-ACD1-1DE7CE95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E4C78-25A1-408C-A89D-4F78B854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A9704-612E-40AC-A3A9-A4A68F69A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5E2FB-15E3-4DFA-B89E-C1B0763B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38C4-8096-4C75-BB11-B85293E5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33E2-3728-45F9-8848-C7B7AF61637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49BC-FB00-4A90-8A31-391D65200A9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CE9F-F14E-47F3-8E9A-4B321EEA4AD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45AC-DE2A-4AEB-95E2-D05FCD58AE7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510A-BCF8-4246-B768-D5A7D141867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070F-BE54-40FB-9D5C-30C4D5855D9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F0B5-B464-48C9-9870-179E582C7BA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38160" y="0"/>
            <a:ext cx="9105840" cy="4649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>
                  <a:alpha val="6705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4" descr="图片1"/>
          <p:cNvPicPr/>
          <p:nvPr/>
        </p:nvPicPr>
        <p:blipFill>
          <a:blip r:embed="rId1"/>
          <a:stretch/>
        </p:blipFill>
        <p:spPr>
          <a:xfrm>
            <a:off x="838080" y="1279440"/>
            <a:ext cx="7391520" cy="5273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QQ截图20121228131942"/>
          <p:cNvPicPr/>
          <p:nvPr/>
        </p:nvPicPr>
        <p:blipFill>
          <a:blip r:embed="rId2"/>
          <a:stretch/>
        </p:blipFill>
        <p:spPr>
          <a:xfrm>
            <a:off x="1066680" y="533520"/>
            <a:ext cx="914400" cy="884160"/>
          </a:xfrm>
          <a:prstGeom prst="rect">
            <a:avLst/>
          </a:prstGeom>
          <a:ln w="0">
            <a:noFill/>
          </a:ln>
        </p:spPr>
      </p:pic>
      <p:sp>
        <p:nvSpPr>
          <p:cNvPr id="339" name="WordArt 6"/>
          <p:cNvSpPr txBox="1"/>
          <p:nvPr/>
        </p:nvSpPr>
        <p:spPr>
          <a:xfrm>
            <a:off x="2438280" y="609480"/>
            <a:ext cx="5639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华文彩云"/>
              </a:rPr>
              <a:t>英语教学课件系列</a:t>
            </a:r>
            <a:endParaRPr b="1" i="1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华文彩云"/>
              <a:ea typeface="华文彩云"/>
            </a:endParaRPr>
          </a:p>
        </p:txBody>
      </p:sp>
      <p:sp>
        <p:nvSpPr>
          <p:cNvPr id="340" name="WordArt 7"/>
          <p:cNvSpPr txBox="1"/>
          <p:nvPr/>
        </p:nvSpPr>
        <p:spPr>
          <a:xfrm rot="20562000">
            <a:off x="3352680" y="4267080"/>
            <a:ext cx="6098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Go</a:t>
            </a:r>
            <a:endParaRPr b="1" i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1" name="WordArt 8"/>
          <p:cNvSpPr txBox="1"/>
          <p:nvPr/>
        </p:nvSpPr>
        <p:spPr>
          <a:xfrm rot="21002400">
            <a:off x="4191120" y="4095360"/>
            <a:ext cx="5331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for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2" name="WordArt 9"/>
          <p:cNvSpPr txBox="1"/>
          <p:nvPr/>
        </p:nvSpPr>
        <p:spPr>
          <a:xfrm rot="20790600">
            <a:off x="4876560" y="3962520"/>
            <a:ext cx="5331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it!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43" name="WordArt 10" descr=""/>
          <p:cNvPicPr/>
          <p:nvPr/>
        </p:nvPicPr>
        <p:blipFill>
          <a:blip r:embed="rId3"/>
          <a:stretch/>
        </p:blipFill>
        <p:spPr>
          <a:xfrm>
            <a:off x="7004160" y="1822320"/>
            <a:ext cx="1689120" cy="470160"/>
          </a:xfrm>
          <a:prstGeom prst="rect">
            <a:avLst/>
          </a:prstGeom>
          <a:ln w="0">
            <a:noFill/>
          </a:ln>
        </p:spPr>
      </p:pic>
      <p:sp>
        <p:nvSpPr>
          <p:cNvPr id="344" name="Line 11"/>
          <p:cNvSpPr/>
          <p:nvPr/>
        </p:nvSpPr>
        <p:spPr>
          <a:xfrm>
            <a:off x="914400" y="1523880"/>
            <a:ext cx="731520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6" descr="2"/>
          <p:cNvPicPr/>
          <p:nvPr/>
        </p:nvPicPr>
        <p:blipFill>
          <a:blip r:embed="rId1"/>
          <a:stretch/>
        </p:blipFill>
        <p:spPr>
          <a:xfrm>
            <a:off x="0" y="533520"/>
            <a:ext cx="5079960" cy="60958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4"/>
          <p:cNvPicPr/>
          <p:nvPr/>
        </p:nvPicPr>
        <p:blipFill>
          <a:blip r:embed="rId2"/>
          <a:stretch/>
        </p:blipFill>
        <p:spPr>
          <a:xfrm>
            <a:off x="5257800" y="457200"/>
            <a:ext cx="3632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5" descr="1"/>
          <p:cNvPicPr/>
          <p:nvPr/>
        </p:nvPicPr>
        <p:blipFill>
          <a:blip r:embed="rId1"/>
          <a:stretch/>
        </p:blipFill>
        <p:spPr>
          <a:xfrm>
            <a:off x="152280" y="762120"/>
            <a:ext cx="4267440" cy="60958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3"/>
          <p:cNvPicPr/>
          <p:nvPr/>
        </p:nvPicPr>
        <p:blipFill>
          <a:blip r:embed="rId2"/>
          <a:stretch/>
        </p:blipFill>
        <p:spPr>
          <a:xfrm>
            <a:off x="4495680" y="838080"/>
            <a:ext cx="4343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hh"/>
          <p:cNvPicPr/>
          <p:nvPr/>
        </p:nvPicPr>
        <p:blipFill>
          <a:blip r:embed="rId1"/>
          <a:stretch/>
        </p:blipFill>
        <p:spPr>
          <a:xfrm>
            <a:off x="5334120" y="838080"/>
            <a:ext cx="3657600" cy="57913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h"/>
          <p:cNvPicPr/>
          <p:nvPr/>
        </p:nvPicPr>
        <p:blipFill>
          <a:blip r:embed="rId2"/>
          <a:stretch/>
        </p:blipFill>
        <p:spPr>
          <a:xfrm>
            <a:off x="152280" y="838080"/>
            <a:ext cx="51818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xxxx"/>
          <p:cNvPicPr/>
          <p:nvPr/>
        </p:nvPicPr>
        <p:blipFill>
          <a:blip r:embed="rId1"/>
          <a:stretch/>
        </p:blipFill>
        <p:spPr>
          <a:xfrm>
            <a:off x="4724280" y="380880"/>
            <a:ext cx="4267440" cy="6477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x"/>
          <p:cNvPicPr/>
          <p:nvPr/>
        </p:nvPicPr>
        <p:blipFill>
          <a:blip r:embed="rId2"/>
          <a:stretch/>
        </p:blipFill>
        <p:spPr>
          <a:xfrm>
            <a:off x="0" y="0"/>
            <a:ext cx="4572000" cy="38862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xx"/>
          <p:cNvPicPr/>
          <p:nvPr/>
        </p:nvPicPr>
        <p:blipFill>
          <a:blip r:embed="rId3"/>
          <a:stretch/>
        </p:blipFill>
        <p:spPr>
          <a:xfrm>
            <a:off x="0" y="3886200"/>
            <a:ext cx="4800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457200" y="4572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2b. Read the first paragraph of Hansel and Gretel. Think about how the fairy tale will continue. Then read the rest of the 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2344320" y="2666880"/>
            <a:ext cx="42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华文琥珀"/>
                <a:ea typeface="华文琥珀"/>
              </a:rPr>
              <a:t>Hansel and Gret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533520" y="3657600"/>
            <a:ext cx="7696080" cy="2531160"/>
          </a:xfrm>
          <a:prstGeom prst="rect">
            <a:avLst/>
          </a:prstGeom>
          <a:solidFill>
            <a:srgbClr val="baf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Finding Out the Tex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efore you read, decide what kind of text it is. Is it a letter, a play, a short story or something els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6" descr="Section B-2b"/>
          <p:cNvPicPr/>
          <p:nvPr/>
        </p:nvPicPr>
        <p:blipFill>
          <a:blip r:embed="rId1"/>
          <a:stretch/>
        </p:blipFill>
        <p:spPr>
          <a:xfrm>
            <a:off x="6629400" y="2438280"/>
            <a:ext cx="2228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5"/>
          <p:cNvSpPr/>
          <p:nvPr/>
        </p:nvSpPr>
        <p:spPr>
          <a:xfrm>
            <a:off x="609480" y="1371600"/>
            <a:ext cx="830592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ansel and Gretel lived near a forest with their father and stepmother. One year, the weather was so dry that no food would grow. The wife told her husband tha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unles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e left the children to die in the forest, the whole family would die. Gretel heard this, and Hansel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made a pl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to save himself and his s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1810800" y="609480"/>
            <a:ext cx="42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584d3"/>
                </a:solidFill>
                <a:latin typeface="华文琥珀"/>
                <a:ea typeface="华文琥珀"/>
              </a:rPr>
              <a:t>Hansel and Gret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7" descr="la8"/>
          <p:cNvPicPr/>
          <p:nvPr/>
        </p:nvPicPr>
        <p:blipFill>
          <a:blip r:embed="rId1"/>
          <a:stretch/>
        </p:blipFill>
        <p:spPr>
          <a:xfrm>
            <a:off x="7086600" y="533520"/>
            <a:ext cx="8398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5"/>
          <p:cNvSpPr/>
          <p:nvPr/>
        </p:nvSpPr>
        <p:spPr>
          <a:xfrm>
            <a:off x="533520" y="1066680"/>
            <a:ext cx="815328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ENE O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retel: Did you hear our stepmother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lanning to kill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ansel: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Don’t worr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! I have a plan to save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retel: How can you save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ansel: Be quiet! I’m going outside to ge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omething in the moonlight. Now, go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o sleep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3810960" y="8380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5"/>
          <p:cNvSpPr/>
          <p:nvPr/>
        </p:nvSpPr>
        <p:spPr>
          <a:xfrm>
            <a:off x="609480" y="1143000"/>
            <a:ext cx="8077320" cy="44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ENE TW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ife: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et u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 lazy child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usband: Yes, dears. You must come with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 to the forest to get w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ife: Here’s some bread. Don’t eat it unt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ou get to the fo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4345200" y="914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5"/>
          <p:cNvSpPr/>
          <p:nvPr/>
        </p:nvSpPr>
        <p:spPr>
          <a:xfrm>
            <a:off x="457200" y="838080"/>
            <a:ext cx="82296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ENE THREE____________________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retel: Hansel, what are you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ansel: I’m dropping white stones along th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ay. Unless I do, we’ll b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onight, when the moon is shining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right, we'll be able to see the st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4573440" y="838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5"/>
          <p:cNvSpPr/>
          <p:nvPr/>
        </p:nvSpPr>
        <p:spPr>
          <a:xfrm>
            <a:off x="292680" y="762120"/>
            <a:ext cx="864972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ENE FOUR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ife: You bad children! What a long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ou slept in the for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usband: We thought you were n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ming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ife: Now, go to bed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s soon a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you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ake u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ou must go to the forest with your f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ansel: What, again? I want to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o 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to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look 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m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ife: No. You can’t go out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345200" y="685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914400" y="1219320"/>
            <a:ext cx="7416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宋体"/>
              </a:rPr>
              <a:t>Unit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宋体"/>
              </a:rPr>
              <a:t>An old man tried to move the mountai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WordArt 6"/>
          <p:cNvSpPr txBox="1"/>
          <p:nvPr/>
        </p:nvSpPr>
        <p:spPr>
          <a:xfrm>
            <a:off x="3276720" y="4419720"/>
            <a:ext cx="29718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Section B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5"/>
          <p:cNvSpPr/>
          <p:nvPr/>
        </p:nvSpPr>
        <p:spPr>
          <a:xfrm>
            <a:off x="457200" y="228600"/>
            <a:ext cx="8001000" cy="32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ENE FIVE: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retel: What can we do? You have no mor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t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ansel: I'll drop pieces of bread. As soon a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moon rises, we can follow them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nst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533520" y="3505320"/>
            <a:ext cx="8458200" cy="34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ENE SIX: 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retel: I can’t see any bread on the grou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ybe it was the bi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ansel: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Never mind!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Just keep walking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Unles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e do, we won’t find our way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4725720" y="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4421160" y="3276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5"/>
          <p:cNvSpPr/>
          <p:nvPr/>
        </p:nvSpPr>
        <p:spPr>
          <a:xfrm>
            <a:off x="380880" y="685800"/>
            <a:ext cx="8534520" cy="60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ENE SEVE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retel: Hansel, we’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eall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lo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ansel: Listen! That bird’s song is so beautifu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at we should follow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retel: Look! It’s leading us to that wonderfu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ous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made o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bread, cake and can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ansel: Let’s eat part of the hou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Then they hear an old woman's voice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nside the house.) Voice: Who is that? Who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rave enoug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to eat my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4725720" y="5335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5"/>
          <p:cNvSpPr/>
          <p:nvPr/>
        </p:nvSpPr>
        <p:spPr>
          <a:xfrm>
            <a:off x="457200" y="1523880"/>
            <a:ext cx="8305920" cy="55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The children get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The children wake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C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The children cannot find the pieces of b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Gretel learns about Hansel's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The children surprise the par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F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Hansel has to change his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G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The children learn that something bad i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oing to hap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231120" y="457200"/>
            <a:ext cx="84848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2c. Match each description below with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correct sce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4"/>
          <p:cNvSpPr/>
          <p:nvPr/>
        </p:nvSpPr>
        <p:spPr>
          <a:xfrm>
            <a:off x="533520" y="1981080"/>
            <a:ext cx="830556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Why does the wife tell her husband to lea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hildren in the for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What does Hansel go out to g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Why does he do this in the moonl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How do Hansel and Gretel find their w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Why do Hansel and Gretel get lost th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econd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381240" y="609480"/>
            <a:ext cx="796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2d. Read the play again and answer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ques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5"/>
          <p:cNvSpPr/>
          <p:nvPr/>
        </p:nvSpPr>
        <p:spPr>
          <a:xfrm>
            <a:off x="457200" y="457200"/>
            <a:ext cx="822960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Why does the wife tell her husband to lea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hildren in the for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447480" y="1600200"/>
            <a:ext cx="835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ecause that year, the weather was so dry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no food would grow. And the family h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little to 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9"/>
          <p:cNvSpPr/>
          <p:nvPr/>
        </p:nvSpPr>
        <p:spPr>
          <a:xfrm>
            <a:off x="448920" y="3048120"/>
            <a:ext cx="618228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What does Hansel go out to g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0"/>
          <p:cNvSpPr/>
          <p:nvPr/>
        </p:nvSpPr>
        <p:spPr>
          <a:xfrm>
            <a:off x="990000" y="3657600"/>
            <a:ext cx="251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hite st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2"/>
          <p:cNvSpPr/>
          <p:nvPr/>
        </p:nvSpPr>
        <p:spPr>
          <a:xfrm>
            <a:off x="450360" y="4114800"/>
            <a:ext cx="722772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Why does he do this in the moonl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3"/>
          <p:cNvSpPr/>
          <p:nvPr/>
        </p:nvSpPr>
        <p:spPr>
          <a:xfrm>
            <a:off x="222480" y="4952880"/>
            <a:ext cx="810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ecause when the moon is shining bright,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tones will be white and bright en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5"/>
          <p:cNvSpPr/>
          <p:nvPr/>
        </p:nvSpPr>
        <p:spPr>
          <a:xfrm>
            <a:off x="304920" y="533520"/>
            <a:ext cx="845820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How do Hansel and Gretel find their w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338760" y="1828800"/>
            <a:ext cx="892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They left some stones on the way. When the mo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s shining bright, the stones will be bright 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to find the way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9"/>
          <p:cNvSpPr/>
          <p:nvPr/>
        </p:nvSpPr>
        <p:spPr>
          <a:xfrm>
            <a:off x="304920" y="3505320"/>
            <a:ext cx="853416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Why do Hansel and Gretel get lost th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econd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0"/>
          <p:cNvSpPr/>
          <p:nvPr/>
        </p:nvSpPr>
        <p:spPr>
          <a:xfrm>
            <a:off x="296280" y="4952880"/>
            <a:ext cx="863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They left some bread on the way. And the bre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a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4"/>
          <p:cNvSpPr/>
          <p:nvPr/>
        </p:nvSpPr>
        <p:spPr>
          <a:xfrm>
            <a:off x="533520" y="3808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3a. Write some key words from each scene. Then discuss your answers with your part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685800" y="2286000"/>
            <a:ext cx="74674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ene 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plan, kill, save,..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ene 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ene 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ene 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ene 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ene 6:  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ene 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2511360" y="2971800"/>
            <a:ext cx="36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et up, forest, b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0"/>
          <p:cNvSpPr/>
          <p:nvPr/>
        </p:nvSpPr>
        <p:spPr>
          <a:xfrm>
            <a:off x="2510640" y="358128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drop, stones, moon, b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2584440" y="4191120"/>
            <a:ext cx="61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ome back, wake up, forest,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2"/>
          <p:cNvSpPr/>
          <p:nvPr/>
        </p:nvSpPr>
        <p:spPr>
          <a:xfrm>
            <a:off x="2511720" y="4800600"/>
            <a:ext cx="36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read, moon,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3"/>
          <p:cNvSpPr/>
          <p:nvPr/>
        </p:nvSpPr>
        <p:spPr>
          <a:xfrm>
            <a:off x="2511360" y="5410080"/>
            <a:ext cx="44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an’t, bread, birds, 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4"/>
          <p:cNvSpPr/>
          <p:nvPr/>
        </p:nvSpPr>
        <p:spPr>
          <a:xfrm>
            <a:off x="2279160" y="6019920"/>
            <a:ext cx="65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lost, song, house, bread, cake, can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4"/>
          <p:cNvSpPr/>
          <p:nvPr/>
        </p:nvSpPr>
        <p:spPr>
          <a:xfrm>
            <a:off x="534960" y="533520"/>
            <a:ext cx="775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3b. Complete the summary of the pl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609480" y="1447920"/>
            <a:ext cx="8077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retel heard that their___________ plan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o ______ her and her brother. But Hansel had a plan to _______ himself and his sister. He went to get some white______  before he went to bed that night. The next day, the wife sent the children to the_______. Hansel _______the stones as they walked. Later that night, they could see the stones because of the shining_____. The stones showed them the way home. Hansel wanted to get some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4724280" y="1447920"/>
            <a:ext cx="21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tep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1220760" y="19051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3277080" y="243828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5258520" y="289548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2"/>
          <p:cNvSpPr/>
          <p:nvPr/>
        </p:nvSpPr>
        <p:spPr>
          <a:xfrm>
            <a:off x="4876920" y="388620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fo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457560" y="4419720"/>
            <a:ext cx="164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dro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1981440" y="533412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m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5"/>
          <p:cNvSpPr/>
          <p:nvPr/>
        </p:nvSpPr>
        <p:spPr>
          <a:xfrm>
            <a:off x="533520" y="762120"/>
            <a:ext cx="800100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tones, but his stepmother did not let him go out. The next morning, the wife sent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hildren to the forest again. Hansel had no stones, so he dropped _______of _____. 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______ ate them, so Hansel and Gretel w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 in the forest. They walked until they saw 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______made of food. Han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anted to______ the house, but then they heard the voice of an old _______coming from the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4573080" y="2514600"/>
            <a:ext cx="122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pi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6172920" y="2438280"/>
            <a:ext cx="11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8"/>
          <p:cNvSpPr/>
          <p:nvPr/>
        </p:nvSpPr>
        <p:spPr>
          <a:xfrm>
            <a:off x="1296720" y="304812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9"/>
          <p:cNvSpPr/>
          <p:nvPr/>
        </p:nvSpPr>
        <p:spPr>
          <a:xfrm>
            <a:off x="1753200" y="36576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0"/>
          <p:cNvSpPr/>
          <p:nvPr/>
        </p:nvSpPr>
        <p:spPr>
          <a:xfrm>
            <a:off x="3506400" y="419112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1"/>
          <p:cNvSpPr/>
          <p:nvPr/>
        </p:nvSpPr>
        <p:spPr>
          <a:xfrm>
            <a:off x="2667600" y="4724280"/>
            <a:ext cx="7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2"/>
          <p:cNvSpPr/>
          <p:nvPr/>
        </p:nvSpPr>
        <p:spPr>
          <a:xfrm>
            <a:off x="5029560" y="5257800"/>
            <a:ext cx="144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2267280" y="404640"/>
            <a:ext cx="41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  <a:ea typeface="宋体"/>
              </a:rPr>
              <a:t>Languag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559800" y="1255680"/>
            <a:ext cx="846072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year, the weather wa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r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od would gr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一年，天气太干旱了以至于粮食颗粒不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84d3"/>
                </a:solidFill>
                <a:latin typeface="Times New Roman"/>
              </a:rPr>
              <a:t>so ...that…</a:t>
            </a:r>
            <a:r>
              <a:rPr b="1" lang="zh-CN" sz="3200" spc="-1" strike="noStrike">
                <a:solidFill>
                  <a:srgbClr val="4584d3"/>
                </a:solidFill>
                <a:latin typeface="Times New Roman"/>
              </a:rPr>
              <a:t>是一个常见的句式结构，即：副词</a:t>
            </a:r>
            <a:r>
              <a:rPr b="1" lang="en-US" sz="3200" spc="-1" strike="noStrike">
                <a:solidFill>
                  <a:srgbClr val="4584d3"/>
                </a:solidFill>
                <a:latin typeface="Times New Roman"/>
              </a:rPr>
              <a:t>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84d3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4584d3"/>
                </a:solidFill>
                <a:latin typeface="Times New Roman"/>
              </a:rPr>
              <a:t>形容词或副词</a:t>
            </a:r>
            <a:r>
              <a:rPr b="1" lang="en-US" sz="3200" spc="-1" strike="noStrike">
                <a:solidFill>
                  <a:srgbClr val="4584d3"/>
                </a:solidFill>
                <a:latin typeface="Times New Roman"/>
              </a:rPr>
              <a:t>+ that</a:t>
            </a:r>
            <a:r>
              <a:rPr b="1" lang="zh-CN" sz="3200" spc="-1" strike="noStrike">
                <a:solidFill>
                  <a:srgbClr val="4584d3"/>
                </a:solidFill>
                <a:latin typeface="Times New Roman"/>
              </a:rPr>
              <a:t>引导的句子，表示“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84d3"/>
                </a:solidFill>
                <a:latin typeface="Times New Roman"/>
              </a:rPr>
              <a:t>此</a:t>
            </a:r>
            <a:r>
              <a:rPr b="1" lang="en-US" sz="3200" spc="-1" strike="noStrike">
                <a:solidFill>
                  <a:srgbClr val="4584d3"/>
                </a:solidFill>
                <a:latin typeface="Times New Roman"/>
              </a:rPr>
              <a:t>......</a:t>
            </a:r>
            <a:r>
              <a:rPr b="1" lang="zh-CN" sz="3200" spc="-1" strike="noStrike">
                <a:solidFill>
                  <a:srgbClr val="4584d3"/>
                </a:solidFill>
                <a:latin typeface="Times New Roman"/>
              </a:rPr>
              <a:t>以至于</a:t>
            </a:r>
            <a:r>
              <a:rPr b="1" lang="en-US" sz="3200" spc="-1" strike="noStrike">
                <a:solidFill>
                  <a:srgbClr val="4584d3"/>
                </a:solidFill>
                <a:latin typeface="Times New Roman"/>
              </a:rPr>
              <a:t>......”</a:t>
            </a:r>
            <a:r>
              <a:rPr b="1" lang="zh-CN" sz="3200" spc="-1" strike="noStrike">
                <a:solidFill>
                  <a:srgbClr val="4584d3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如本单元中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个句子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t bird’s song is so beautiful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should follow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只鸟的歌声是如此美妙，我们应当跟着它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1676520" y="2438280"/>
            <a:ext cx="43434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__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ol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 empe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 sil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 underw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230400" y="838080"/>
            <a:ext cx="85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1a. Match the words with the letters in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pictures in 1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3125520" y="2514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3049560" y="32004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3049920" y="38862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3049560" y="4572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3"/>
          <p:cNvSpPr/>
          <p:nvPr/>
        </p:nvSpPr>
        <p:spPr>
          <a:xfrm>
            <a:off x="457200" y="1143000"/>
            <a:ext cx="868680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84d3"/>
                </a:solidFill>
                <a:latin typeface="Times New Roman"/>
                <a:ea typeface="宋体"/>
              </a:rPr>
              <a:t>有时这个句式中的</a:t>
            </a:r>
            <a:r>
              <a:rPr b="1" lang="en-US" sz="3200" spc="-1" strike="noStrike">
                <a:solidFill>
                  <a:srgbClr val="4584d3"/>
                </a:solidFill>
                <a:latin typeface="Times New Roman"/>
                <a:ea typeface="宋体"/>
              </a:rPr>
              <a:t>that</a:t>
            </a:r>
            <a:r>
              <a:rPr b="1" lang="zh-CN" sz="3200" spc="-1" strike="noStrike">
                <a:solidFill>
                  <a:srgbClr val="4584d3"/>
                </a:solidFill>
                <a:latin typeface="Times New Roman"/>
                <a:ea typeface="宋体"/>
              </a:rPr>
              <a:t>可以省略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verything happened so quickly I didn’t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to thin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切发生得是那么快，我连思考的时间都没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4"/>
          <p:cNvSpPr/>
          <p:nvPr/>
        </p:nvSpPr>
        <p:spPr>
          <a:xfrm>
            <a:off x="380880" y="990720"/>
            <a:ext cx="8305920" cy="48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W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though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you were never coming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以为你们再也不回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e thought..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人们过去的某种想法、判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断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译作“我们原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；我们本以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”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又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 thought he would come, but he did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我原想他会来的，但他却没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4"/>
          <p:cNvSpPr/>
          <p:nvPr/>
        </p:nvSpPr>
        <p:spPr>
          <a:xfrm>
            <a:off x="533520" y="914400"/>
            <a:ext cx="8001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s soon a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you wake up, you must go to the forest with your f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们一醒来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就必须和爸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去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森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s soon as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表不“一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就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再如本单元中这个句子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s soon as the moon rises, we can follow them inst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月亮一升起来，我们就可以顺着它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面包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4"/>
          <p:cNvSpPr/>
          <p:nvPr/>
        </p:nvSpPr>
        <p:spPr>
          <a:xfrm>
            <a:off x="457200" y="533520"/>
            <a:ext cx="8077320" cy="38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It’s leading us to that wonderful hous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made o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bread, cake and can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它在把我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引向那座有面包、蛋糕和糖果做成的美妙房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此句中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de of bread, cake and candy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作定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修饰名问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ouse,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形容词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onderful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也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ouse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定语。在英语中，大部分形容词作定语修饰名词时应前置，短语或句子作定语修饰名词时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后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又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young people in the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屋子里的年轻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304920" y="380880"/>
            <a:ext cx="853416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完成句子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)______  ______  _______ _______,there was a   famous singer.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从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)Tom ____ _____ in Beijing yesterday morning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迷路）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)He _______ ______ _____ a train to Qingdao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for a trip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决定）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)Let’s ____  ____ ____ ____ this week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骑车兜风）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)The little girl ____  ___ a bag yesterday.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捡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7920" y="1066680"/>
            <a:ext cx="51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Once    upon     a            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1675440" y="2133720"/>
            <a:ext cx="164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ot  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5"/>
          <p:cNvSpPr/>
          <p:nvPr/>
        </p:nvSpPr>
        <p:spPr>
          <a:xfrm>
            <a:off x="1291320" y="3352680"/>
            <a:ext cx="37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decided    to       t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1746720" y="4495680"/>
            <a:ext cx="38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o      for    a       r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2972160" y="571500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picked 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-360" y="206064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One day Goldilocks walked into the forest and (1)</a:t>
            </a:r>
            <a:r>
              <a:rPr b="1" lang="en-US" sz="2400" spc="-1" strike="noStrike" u="sng">
                <a:solidFill>
                  <a:srgbClr val="073e87"/>
                </a:solidFill>
                <a:uFillTx/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some flowers. It was very (2)</a:t>
            </a:r>
            <a:r>
              <a:rPr b="1" lang="en-US" sz="2400" spc="-1" strike="noStrike" u="sng">
                <a:solidFill>
                  <a:srgbClr val="073e87"/>
                </a:solidFill>
                <a:uFillTx/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and soon she was lost. She looked (3) </a:t>
            </a:r>
            <a:r>
              <a:rPr b="1" lang="en-US" sz="2400" spc="-1" strike="noStrike" u="sng">
                <a:solidFill>
                  <a:srgbClr val="073e87"/>
                </a:solidFill>
                <a:uFillTx/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her, and saw a little house, and she walked (4)</a:t>
            </a:r>
            <a:r>
              <a:rPr b="1" lang="en-US" sz="2400" spc="-1" strike="noStrike" u="sng">
                <a:solidFill>
                  <a:srgbClr val="073e87"/>
                </a:solidFill>
                <a:uFillTx/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it. Then she (5)</a:t>
            </a:r>
            <a:r>
              <a:rPr b="1" lang="en-US" sz="2400" spc="-1" strike="noStrike" u="sng">
                <a:solidFill>
                  <a:srgbClr val="073e87"/>
                </a:solidFill>
                <a:uFillTx/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 on the door, but there was (6)</a:t>
            </a:r>
            <a:r>
              <a:rPr b="1" lang="en-US" sz="2400" spc="-1" strike="noStrike" u="sng">
                <a:solidFill>
                  <a:srgbClr val="073e87"/>
                </a:solidFill>
                <a:uFillTx/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in. She (7)</a:t>
            </a:r>
            <a:r>
              <a:rPr b="1" lang="en-US" sz="2400" spc="-1" strike="noStrike" u="sng">
                <a:solidFill>
                  <a:srgbClr val="073e87"/>
                </a:solidFill>
                <a:uFillTx/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the door and (8) </a:t>
            </a:r>
            <a:r>
              <a:rPr b="1" lang="en-US" sz="2400" spc="-1" strike="noStrike" u="sng">
                <a:solidFill>
                  <a:srgbClr val="073e87"/>
                </a:solidFill>
                <a:uFillTx/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the house. There were three (9)</a:t>
            </a:r>
            <a:r>
              <a:rPr b="1" lang="en-US" sz="2400" spc="-1" strike="noStrike" u="sng">
                <a:solidFill>
                  <a:srgbClr val="073e87"/>
                </a:solidFill>
                <a:uFillTx/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on the tale, a small one, a big one and a very big one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WordArt 10"/>
          <p:cNvSpPr txBox="1"/>
          <p:nvPr/>
        </p:nvSpPr>
        <p:spPr>
          <a:xfrm>
            <a:off x="468360" y="260280"/>
            <a:ext cx="8280360" cy="63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Times New Roman"/>
              </a:rPr>
              <a:t>Complete the passage with the correct form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6" name="内容占位符 2"/>
          <p:cNvSpPr/>
          <p:nvPr/>
        </p:nvSpPr>
        <p:spPr>
          <a:xfrm>
            <a:off x="755640" y="981000"/>
            <a:ext cx="806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宋体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宋体"/>
              </a:rPr>
              <a:t>around       bowl    dark     enter     knock      nobody      pick      push      toward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5"/>
          <p:cNvSpPr/>
          <p:nvPr/>
        </p:nvSpPr>
        <p:spPr>
          <a:xfrm>
            <a:off x="2341440" y="5084640"/>
            <a:ext cx="151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宋体"/>
              </a:rPr>
              <a:t>enter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  <a:ea typeface="宋体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6"/>
          <p:cNvSpPr/>
          <p:nvPr/>
        </p:nvSpPr>
        <p:spPr>
          <a:xfrm>
            <a:off x="2053440" y="4221000"/>
            <a:ext cx="160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宋体"/>
              </a:rPr>
              <a:t>knock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  <a:ea typeface="宋体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7"/>
          <p:cNvSpPr/>
          <p:nvPr/>
        </p:nvSpPr>
        <p:spPr>
          <a:xfrm>
            <a:off x="5292720" y="3716280"/>
            <a:ext cx="16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宋体"/>
              </a:rPr>
              <a:t>towa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8"/>
          <p:cNvSpPr/>
          <p:nvPr/>
        </p:nvSpPr>
        <p:spPr>
          <a:xfrm>
            <a:off x="4932720" y="4653000"/>
            <a:ext cx="14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宋体"/>
              </a:rPr>
              <a:t>push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  <a:ea typeface="宋体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9"/>
          <p:cNvSpPr/>
          <p:nvPr/>
        </p:nvSpPr>
        <p:spPr>
          <a:xfrm>
            <a:off x="2558520" y="5516640"/>
            <a:ext cx="11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宋体"/>
              </a:rPr>
              <a:t>bowl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  <a:ea typeface="宋体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10"/>
          <p:cNvSpPr/>
          <p:nvPr/>
        </p:nvSpPr>
        <p:spPr>
          <a:xfrm>
            <a:off x="2777040" y="328464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宋体"/>
              </a:rPr>
              <a:t>aro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11"/>
          <p:cNvSpPr/>
          <p:nvPr/>
        </p:nvSpPr>
        <p:spPr>
          <a:xfrm>
            <a:off x="1410120" y="4653000"/>
            <a:ext cx="14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宋体"/>
              </a:rPr>
              <a:t>no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12"/>
          <p:cNvSpPr/>
          <p:nvPr/>
        </p:nvSpPr>
        <p:spPr>
          <a:xfrm>
            <a:off x="1697040" y="2924280"/>
            <a:ext cx="9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宋体"/>
              </a:rPr>
              <a:t>d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13"/>
          <p:cNvSpPr/>
          <p:nvPr/>
        </p:nvSpPr>
        <p:spPr>
          <a:xfrm>
            <a:off x="2124000" y="2492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宋体"/>
              </a:rPr>
              <a:t>pick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  <a:ea typeface="宋体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2410560" y="981000"/>
            <a:ext cx="299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  <a:ea typeface="宋体"/>
              </a:rPr>
              <a:t>Homewo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"/>
          <p:cNvSpPr/>
          <p:nvPr/>
        </p:nvSpPr>
        <p:spPr>
          <a:xfrm>
            <a:off x="762120" y="2819520"/>
            <a:ext cx="770724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hare more fair tales with your classmates and make role pla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WordArt 4"/>
          <p:cNvSpPr txBox="1"/>
          <p:nvPr/>
        </p:nvSpPr>
        <p:spPr>
          <a:xfrm>
            <a:off x="1676520" y="2438280"/>
            <a:ext cx="624816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9900"/>
                </a:solidFill>
                <a:latin typeface="华文行楷"/>
              </a:rPr>
              <a:t>Thank You!</a:t>
            </a:r>
            <a:endParaRPr b="0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ff9900"/>
              </a:solidFill>
              <a:latin typeface="华文行楷"/>
              <a:ea typeface="华文行楷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1080" y="533520"/>
            <a:ext cx="92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1b. Listen and number the pictures [1-5] in 1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7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2819520" cy="23004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"/>
          <p:cNvPicPr/>
          <p:nvPr/>
        </p:nvPicPr>
        <p:blipFill>
          <a:blip r:embed="rId2"/>
          <a:stretch/>
        </p:blipFill>
        <p:spPr>
          <a:xfrm>
            <a:off x="609480" y="4191120"/>
            <a:ext cx="2590920" cy="2187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9" descr=""/>
          <p:cNvPicPr/>
          <p:nvPr/>
        </p:nvPicPr>
        <p:blipFill>
          <a:blip r:embed="rId3"/>
          <a:stretch/>
        </p:blipFill>
        <p:spPr>
          <a:xfrm>
            <a:off x="3124080" y="2895480"/>
            <a:ext cx="2743200" cy="23036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0" descr=""/>
          <p:cNvPicPr/>
          <p:nvPr/>
        </p:nvPicPr>
        <p:blipFill>
          <a:blip r:embed="rId4"/>
          <a:stretch/>
        </p:blipFill>
        <p:spPr>
          <a:xfrm>
            <a:off x="5943600" y="1447920"/>
            <a:ext cx="2514600" cy="2187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1" descr=""/>
          <p:cNvPicPr/>
          <p:nvPr/>
        </p:nvPicPr>
        <p:blipFill>
          <a:blip r:embed="rId5"/>
          <a:stretch/>
        </p:blipFill>
        <p:spPr>
          <a:xfrm>
            <a:off x="6095880" y="4038480"/>
            <a:ext cx="2590920" cy="2417760"/>
          </a:xfrm>
          <a:prstGeom prst="rect">
            <a:avLst/>
          </a:prstGeom>
          <a:ln w="0">
            <a:noFill/>
          </a:ln>
        </p:spPr>
      </p:pic>
      <p:sp>
        <p:nvSpPr>
          <p:cNvPr id="359" name="Oval 12"/>
          <p:cNvSpPr/>
          <p:nvPr/>
        </p:nvSpPr>
        <p:spPr>
          <a:xfrm>
            <a:off x="1600200" y="2971800"/>
            <a:ext cx="45720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3"/>
          <p:cNvSpPr/>
          <p:nvPr/>
        </p:nvSpPr>
        <p:spPr>
          <a:xfrm>
            <a:off x="1602000" y="27432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5"/>
          <p:cNvSpPr/>
          <p:nvPr/>
        </p:nvSpPr>
        <p:spPr>
          <a:xfrm>
            <a:off x="74692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16" descr="la8"/>
          <p:cNvPicPr/>
          <p:nvPr/>
        </p:nvPicPr>
        <p:blipFill>
          <a:blip r:embed="rId6"/>
          <a:stretch/>
        </p:blipFill>
        <p:spPr>
          <a:xfrm>
            <a:off x="4343400" y="1219320"/>
            <a:ext cx="600120" cy="76176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17"/>
          <p:cNvSpPr/>
          <p:nvPr/>
        </p:nvSpPr>
        <p:spPr>
          <a:xfrm>
            <a:off x="3202200" y="28195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8"/>
          <p:cNvSpPr/>
          <p:nvPr/>
        </p:nvSpPr>
        <p:spPr>
          <a:xfrm>
            <a:off x="1373400" y="4038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9"/>
          <p:cNvSpPr/>
          <p:nvPr/>
        </p:nvSpPr>
        <p:spPr>
          <a:xfrm>
            <a:off x="382680" y="2895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0"/>
          <p:cNvSpPr/>
          <p:nvPr/>
        </p:nvSpPr>
        <p:spPr>
          <a:xfrm>
            <a:off x="7317000" y="1295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2320" y="533520"/>
            <a:ext cx="74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1c. Listen again and fill in the blan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8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2703240" cy="304812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10"/>
          <p:cNvSpPr/>
          <p:nvPr/>
        </p:nvSpPr>
        <p:spPr>
          <a:xfrm>
            <a:off x="3348360" y="1828800"/>
            <a:ext cx="563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story is about an emper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o loved 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2"/>
          <p:cNvSpPr/>
          <p:nvPr/>
        </p:nvSpPr>
        <p:spPr>
          <a:xfrm>
            <a:off x="297000" y="4495680"/>
            <a:ext cx="561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wo ________ came to the 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o make special clothes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empe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13" descr=""/>
          <p:cNvPicPr/>
          <p:nvPr/>
        </p:nvPicPr>
        <p:blipFill>
          <a:blip r:embed="rId2"/>
          <a:stretch/>
        </p:blipFill>
        <p:spPr>
          <a:xfrm>
            <a:off x="5791320" y="3581280"/>
            <a:ext cx="3352680" cy="28083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la8"/>
          <p:cNvPicPr/>
          <p:nvPr/>
        </p:nvPicPr>
        <p:blipFill>
          <a:blip r:embed="rId3"/>
          <a:stretch/>
        </p:blipFill>
        <p:spPr>
          <a:xfrm>
            <a:off x="8077320" y="685800"/>
            <a:ext cx="600120" cy="7621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16"/>
          <p:cNvSpPr/>
          <p:nvPr/>
        </p:nvSpPr>
        <p:spPr>
          <a:xfrm>
            <a:off x="5410440" y="236232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lo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7"/>
          <p:cNvSpPr/>
          <p:nvPr/>
        </p:nvSpPr>
        <p:spPr>
          <a:xfrm>
            <a:off x="1295640" y="4495680"/>
            <a:ext cx="167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5"/>
          <p:cNvSpPr/>
          <p:nvPr/>
        </p:nvSpPr>
        <p:spPr>
          <a:xfrm>
            <a:off x="228600" y="4419720"/>
            <a:ext cx="51055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en the emperor________ at himself, he only ________ his underw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6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3352680" cy="29448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7"/>
          <p:cNvSpPr/>
          <p:nvPr/>
        </p:nvSpPr>
        <p:spPr>
          <a:xfrm>
            <a:off x="3733920" y="762120"/>
            <a:ext cx="51814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emperor had to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m silk and gold, but they ________ everything for themselves. They were trying to cheat the empe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8" descr=""/>
          <p:cNvPicPr/>
          <p:nvPr/>
        </p:nvPicPr>
        <p:blipFill>
          <a:blip r:embed="rId2"/>
          <a:stretch/>
        </p:blipFill>
        <p:spPr>
          <a:xfrm>
            <a:off x="5867280" y="4114800"/>
            <a:ext cx="2895840" cy="252108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9"/>
          <p:cNvSpPr/>
          <p:nvPr/>
        </p:nvSpPr>
        <p:spPr>
          <a:xfrm>
            <a:off x="7467840" y="762120"/>
            <a:ext cx="8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0"/>
          <p:cNvSpPr/>
          <p:nvPr/>
        </p:nvSpPr>
        <p:spPr>
          <a:xfrm>
            <a:off x="3886920" y="198108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k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3810240" y="4495680"/>
            <a:ext cx="13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loo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2"/>
          <p:cNvSpPr/>
          <p:nvPr/>
        </p:nvSpPr>
        <p:spPr>
          <a:xfrm>
            <a:off x="3734640" y="5105520"/>
            <a:ext cx="83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4"/>
          <p:cNvSpPr/>
          <p:nvPr/>
        </p:nvSpPr>
        <p:spPr>
          <a:xfrm>
            <a:off x="457200" y="4114800"/>
            <a:ext cx="85345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Nobody wanted to sound stupid. But suddenly, a young boy________,  “Look! The emperor isn’t ________ any clothes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5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5486400" cy="332928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6"/>
          <p:cNvSpPr/>
          <p:nvPr/>
        </p:nvSpPr>
        <p:spPr>
          <a:xfrm>
            <a:off x="2743560" y="487692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ho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1447920" y="5562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4"/>
          <p:cNvSpPr/>
          <p:nvPr/>
        </p:nvSpPr>
        <p:spPr>
          <a:xfrm>
            <a:off x="535680" y="1600200"/>
            <a:ext cx="821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1d. Use the pictures in 1c to tell the 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0"/>
          <p:cNvSpPr/>
          <p:nvPr/>
        </p:nvSpPr>
        <p:spPr>
          <a:xfrm>
            <a:off x="1241280" y="2666880"/>
            <a:ext cx="6502320" cy="119124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Once upon a time, there w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an empero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685800" y="4495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Once upon a time, there was an emperor who loved beautiful clothes. One day, tw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rothers came to the cit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WordArt 6"/>
          <p:cNvSpPr txBox="1"/>
          <p:nvPr/>
        </p:nvSpPr>
        <p:spPr>
          <a:xfrm>
            <a:off x="2362320" y="609480"/>
            <a:ext cx="4114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Pair Work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"/>
          <p:cNvSpPr/>
          <p:nvPr/>
        </p:nvSpPr>
        <p:spPr>
          <a:xfrm>
            <a:off x="533520" y="76212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2a. A fairy tale is an old, traditional story. Do you know what these fairy tales are abou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0"/>
          <p:cNvSpPr/>
          <p:nvPr/>
        </p:nvSpPr>
        <p:spPr>
          <a:xfrm>
            <a:off x="1851840" y="2971800"/>
            <a:ext cx="5103360" cy="173988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Sleeping Beau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Cinder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Little Red Riding H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will</cp:lastModifiedBy>
  <dcterms:modified xsi:type="dcterms:W3CDTF">2016-03-25T02:54:41Z</dcterms:modified>
  <cp:revision>22</cp:revision>
  <dc:subject/>
  <dc:title>PowerPoint 演示文稿</dc:title>
</cp:coreProperties>
</file>